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gif" ContentType="image/gif"/>
  <Override PartName="/ppt/media/image14.jpeg" ContentType="image/jpeg"/>
  <Override PartName="/ppt/media/image3.jpeg" ContentType="image/jpeg"/>
  <Override PartName="/ppt/media/image2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7BB-5BAE-4C9C-AD1D-E5F8CBC4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54A-8F29-4202-8219-8EB805C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7FD-DBB2-42C3-8623-80D554A3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176-D283-45E2-9AE2-A9171CE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71A-C520-4CC5-9485-3046DCF1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355-F6C0-48F5-B35B-265F868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EA2E-98B2-4BFB-93F4-AD868B8D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F209-E0A7-41FF-A380-070D5BA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D52E-4E9D-42E2-9A93-B8451C5D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A274-DCDD-4D03-A781-AB2B838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21D-F6A1-4871-B4E0-FCA767B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610-03D2-4AA9-9912-10EBFA28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2A7-EA10-4427-9C8B-973D58C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5B6D-F819-4E27-B4D2-41EAFF6B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C0F-8D37-4480-B521-00B74FE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AB3F-307E-4BCE-A0CB-A6655FB3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50FC-A3DC-4E9B-AD77-BC422C2D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3076-6473-403A-8862-1C0683ED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26D4-FC35-4551-BD7E-9C76E07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FC2A-CFB1-48EF-B654-7690D77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9655-2C30-4AF5-AC34-0BB781D4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D7AB-8E42-44CF-AF21-9075F83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794-E7C8-47E0-9054-1A749E6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4815-1592-49D9-B32F-0D0AFBC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9A80-7B3B-4286-8064-B70B3D3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5339-4799-4B07-9EB2-7C9CC11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099D-0121-401A-B46B-E561242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6559-9791-44CD-ADDB-2D219A9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C007-2753-4DF0-9A7C-A2A21C88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CABE-5649-47D3-8881-D2A6E93A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A811-FF0E-4922-83FE-C7A1C4AA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DE6A-258F-4E64-A6C3-57E61180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8768-4CB2-45E8-BE1D-858CB76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376-EDF0-463F-B170-0FF5E4F4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1E16D-F34C-43E4-B5ED-3241246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A480-C108-4A51-926B-571F12D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63F6-CF9D-4432-93BA-540F2411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F5BA-564E-4F90-82A9-67F60BB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6E92-40CE-473A-80F2-D957C9D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1EE1-E986-464E-BEAA-A3A7D3A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8E1B-AE5F-4353-885B-F50C8DF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8190-6AF5-4174-B7D7-54B2750C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F31E-4492-4D29-8C4C-7734628F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3F85-0F4D-45EE-97EA-C54873D7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0F3-873A-48F3-A98D-F4E34B6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8FA1-6030-4400-B14C-F7E21840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8C3A-C474-45DA-96E5-313C82A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0DEA8-CCB7-4F93-9D4F-5B118E1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22A3-8AFE-4A4E-A467-61262B3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CA60-4798-4B2D-A317-9A71574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DE49-971E-4774-800F-5590041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07F0-F094-4642-838D-EA6747A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48B3-F3F1-4A99-8E38-D833904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A300-C114-4D18-89E1-05DBF9C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2C1D-3E67-4478-A5CA-72D086A4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F4B-F478-4DB3-95C1-E23204CC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E004-21DD-4E9E-8C33-E3AC808D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C07-C66F-4375-8622-CED6F7A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8DA-78B3-464F-B615-24D79C8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262-BE82-447F-B84B-89C2B5B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602C-0E46-49FA-9702-244DFEED21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DBA8-D087-4523-9686-3F0D4FD57A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1CC-AC7A-4243-8DD6-382C1DE47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8B6-F382-4D13-B848-6DDBAACCF05D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E858-032E-46FB-A577-8EF1E6573196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C:/Documents%20and%20Settings/Administrator/Local%20Settings/Temp/Rar$DI00.453/&#24847;&#24535;&#21147;&#33258;&#25105;&#27979;&#35797;.doc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453/&#24858;&#20844;&#31227;&#23665;.mp3" TargetMode="External"/><Relationship Id="rId2" Type="http://schemas.openxmlformats.org/officeDocument/2006/relationships/hyperlink" Target="file:///C:/Documents%20and%20Settings/Administrator/Local%20Settings/Temp/Rar$DI00.453/&#24858;&#20844;&#31227;&#23665;.mp3" TargetMode="External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453/GDTV45_12.MP3" TargetMode="External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40000" y="393372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楷体"/>
              </a:rPr>
              <a:t>一、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楷体"/>
              </a:rPr>
              <a:t>8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楷体"/>
              </a:rPr>
              <a:t>班  自我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00000" y="1557360"/>
            <a:ext cx="742968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如何培养意志力</a:t>
            </a:r>
            <a:endParaRPr b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486400" cy="841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4360" y="134136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听了一个先进同学的事迹，深受感动，决心在本学期内将成绩从全班三十多名提升至前十名，他模仿成绩好的同学的学习方法，但效果不好，他很灰心，只好放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53800" y="5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44496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目标不现实，方法不当，机械模仿。 我们应该制定符合自身实际的奋斗目标（必须是经过自己的努力能够实现的），结合自己的实际情况，找到适合自己的科学的学习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22662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一名住宿生，每天中午放学后，别的同学或回家或到餐厅吃饭，她却给自己规定要挤出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的时间专门记英语单词，每天至少要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，然后再回宿舍凑合吃点，结果很多时候都不能完成预定的任务，反而还搞得身心疲惫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380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4337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意志不是盲目的努力 →要在平时的学习活动中锻炼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个十足的足球迷，高考前两个月恰逢世界杯，他偷偷地看了两场，发现自己几乎不能自拔了，后来他叫人把自己反锁在房里，强迫自己学习。他发誓，考完高考后，立即找世界杯的录像好好地看个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24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4286880"/>
            <a:ext cx="568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自制力和坚持性不是说有就有的，有时候的确需要对自己“狠”一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59280" y="548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心理小测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0720" y="24922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习意志强弱自我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80000" y="4143240"/>
            <a:ext cx="25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2"/>
              </a:rPr>
              <a:t>附自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708280"/>
            <a:ext cx="21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贴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志力自我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道题，请你逐题认真读一读，然后在题后的五种答案中选择一种（只能选择一种），画上‘√’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很喜爱长跑、远途旅行、爬山等体育运动，但并不是因为我的身体条件适合这些项目，而是因为它们能使我更有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同意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较同意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否之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大同意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同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给自己订的计划常常因为主观原因不能如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情况很多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较多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多不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较少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4872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如没有特殊原因，我能每天按时起床，不睡懒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很同意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较同意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可否之间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大同意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同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订的计划应有一定的灵活性，如果完成计划有困难，随时可以改变或撤消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同意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同意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所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意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学习和娱乐发生冲突的时候，哪怕这种娱乐很有吸引力，我也会马上决定去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常如此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经常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有时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少如此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50920" y="1628640"/>
            <a:ext cx="850716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或工作中遇到困难的时候，最好的办法是立即向师长、同志、同学求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同意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较同意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无所谓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大同意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反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42920" y="2912040"/>
            <a:ext cx="7561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游戏：“站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班同学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组，每小组派一位代表参赛，练习“站桩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是：两手平伸，两脚与肩间宽，双腿尽量下蹲，上身保持平直。比谁坚持到最后，并获精美礼品一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5760" y="966240"/>
            <a:ext cx="3360600" cy="856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游戏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练长跑中遇到生理反应，觉得跑不动时，我常常咬紧牙关，坚持到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常如此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常如此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有时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少如此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常因读一本引人入胜的小说而不能按时睡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常有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多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有时无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少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7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在做一件应该做的事之前，常能想到做与不做的好坏结果，而有目的地去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经常如此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较常如此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时有时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较少如此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非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对一件事不感兴趣，那么不管它是什么事，我的积极性都不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常如此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常如此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有时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少如此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如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当我同时面临一件该做的事和一件不该做却吸引着我的事时，我常常经过激烈斗争，使前者占上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时是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与非之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很少这样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我躺在床上，下决心第二天要干一件重要事情（例如突击学一下外语），但到第二天，这种劲头又消失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有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常有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有时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较少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长时间做一件重要但枯燥无味的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时是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与非之间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少这样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活中遇到复杂情况时，我常常优柔寡断，举棋不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有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时有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与非之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很少有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件事之前，我首先想的是它的重要性，其次才能想它是否使我感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是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与非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少是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6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遇到困难情况时，常常希望别人帮我拿主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时是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与非之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很少是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愚公移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听起来是奇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讲起来是笑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任凭那扁担把脊背压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任凭那脚板把木屐磨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着王屋与太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凭着是一身肝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讲起来不是那奇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谈起来不是笑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望望头上天外天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走走脚下一马平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着满堂儿儿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了却了心中祈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无路难呀开路更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以后来人为你感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决定做一件事时，常常说干就干，决不拖延或让它落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是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与非之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少是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在和别人争吵时，虽然明知不对，我却忍不住说一些过头话，甚至骂他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时常有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时有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时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很少有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希望做一个坚强的有毅力的人，因为我深信“有志者事竟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是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与非之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少是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相信机遇，好多事实证明机遇的作用有时大大超过人的努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是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与非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少是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26085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凡单序号题（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5……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，每题后面的五种回答，从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A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到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E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依次记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分；凡双序号题（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6……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，题后五种回答依次记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73000" y="692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Arial"/>
              </a:rPr>
              <a:t>自测评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 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的分数总和与意志力的关系如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1~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  意志很坚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1~  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  意志较坚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1~  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  意志力一般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~ 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 意志较薄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~ 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  意志很薄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1136160"/>
            <a:ext cx="6969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四、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如何培养自己坚强的学习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2348640"/>
            <a:ext cx="72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确定崇高的学习目标，树立远大的理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84480" y="3715560"/>
            <a:ext cx="495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制定一份自我约束，自我锻炼意志的计划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4580640"/>
            <a:ext cx="4434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持之以恒，百折不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25434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2026080"/>
            <a:ext cx="79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“伟大的事业不是靠力气、速度和身体的敏捷完成的，而是靠性格、意志和知识的力量完成的。”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900000" y="2492280"/>
            <a:ext cx="763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成功＝</a:t>
            </a: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99</a:t>
            </a: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％汗水</a:t>
            </a: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+1</a:t>
            </a: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％智慧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42920" y="2565360"/>
            <a:ext cx="763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成功＝？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4724280"/>
            <a:ext cx="8748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当你感到坚持不住的时候，想些办法让自己坚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55640" y="306864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意志力是人们有意识地支配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调节行为，通过克服困难、以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现预定目的的心理过程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620640"/>
            <a:ext cx="4753080" cy="1295640"/>
          </a:xfrm>
          <a:prstGeom prst="wedgeEllipseCallout">
            <a:avLst>
              <a:gd name="adj1" fmla="val 74615"/>
              <a:gd name="adj2" fmla="val 18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意志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如果你还可以努力、可以付出，就不要轻言停止和放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琥珀"/>
              </a:rPr>
              <a:t>有志者，事竟成；苦心人，天不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77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532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Arial"/>
                <a:ea typeface="华文琥珀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伟人之所以伟大，是因为他与别人共处逆境时，别人失去了信心，他却下决心实现自己的目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1987560"/>
            <a:ext cx="75614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1912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琥珀"/>
              </a:rPr>
              <a:t>不为失败找理由，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琥珀"/>
              </a:rPr>
              <a:t>要为成功找方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00000" y="1897200"/>
            <a:ext cx="7848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0920" y="-243360"/>
            <a:ext cx="75596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华文琥珀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琥珀"/>
              </a:rPr>
              <a:t>如果这个时候你选择放弃，之前的努力就会白费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6840720" cy="51055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80960" y="16542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08040" y="1916280"/>
            <a:ext cx="182628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成功者绝不放弃，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放弃者绝不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团体分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当你坚持到最后的时候，你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当你想放弃的时候，你是怎么激励自己坚持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你觉得这个游戏对你的学习与生活有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你有哪些自我激励的方法，说出来分享一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意志力自我激励的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语言激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情绪控制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动作激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4000" y="692280"/>
            <a:ext cx="77724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当上帝关上一扇门的时候，他必然会打开另一扇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只要你认为你行，你就行；你认为你不行，你就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成功就是每天进步一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成功就是经过一个又一个失败，但仍然热情万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592200"/>
            <a:ext cx="82645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成功最大的秘诀就是坚持：天冷坚持、天热坚持、吵闹坚持、孤独坚持、身处逆境的时候坚持、别人都放弃的时候坚持、绝望的时候坚持、实在坚持不住的时候再咬牙坚持一会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人们的承诺不相上下，只有行动才能显出差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与其空想，不如马上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用行动治疗恐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放弃鸡毛蒜皮的小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不如意的时候不要尽往悲伤里钻，想想有笑声的日子 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耐心点——最好的事物总得费些时间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8160" y="14122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意志力需要以下四个条件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05040" y="25646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的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90880" y="249156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灵活性和果断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77800" y="407592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制力和坚持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4120" y="400464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奖励和惩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496800"/>
            <a:ext cx="8713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养成这样一些好习惯：不睡懒觉、喜欢阅读、整洁条理、爱思考、不拖拉、会管理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改变习惯是简单的，成功也是简单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要勇敢，要战胜恐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保持良好的姿态，踏进任何房间时，都要昂首阔步、充满自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永远也不要消极地认为什么事是不可能的。不是不可能，只是暂时还没想到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0"/>
            <a:ext cx="4392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坚持毅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英国首相丘吉尔是一个非常有名的演讲家，他在他生命的最后一次演讲是在剑桥大学的毕业典礼上，那次演讲的全过程大概持续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，但是在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内，他只讲了两句话，而且都是相同的：坚持到底，永不放弃！坚持到底，永不放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34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050560" y="-360"/>
            <a:ext cx="5977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铿锵玫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切美好只是昨日沉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淡淡苦涩才是今天滋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想想明天又是雨晒风吹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再苦再累无惧无畏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身上的痛让我难以入睡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脚下的路还有更多的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追逐梦想总是百转千回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无怨无悔从容面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风雨彩虹铿锵玫瑰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再多忧伤再多痛苦自己去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风雨彩虹铿锵玫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63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纵横四海笑傲天涯永不后退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思绪飘飞带着梦想去追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行我素做人要敢做敢为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生苦短哪能半途而废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弃不馁无惧无畏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桃李争辉飒爽英姿斗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成功失败总是欢乐伤悲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红颜娇美承受雨打风吹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拔剑扬眉豪情快慰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风雨彩虹铿锵玫瑰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芳心似水激情如火梦想鼎沸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风雨彩虹铿锵玫瑰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纵横四海笑傲天涯风情壮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68360" y="1989000"/>
            <a:ext cx="7272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希望您是一个坚强的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556000" y="2708280"/>
            <a:ext cx="3638520" cy="20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484360" y="1381680"/>
            <a:ext cx="3095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二、案例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2852640"/>
            <a:ext cx="6480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情境中的这几个学生存在什么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该如何帮他们解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241640"/>
            <a:ext cx="864216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行楷"/>
              </a:rPr>
              <a:t>情境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教师正在发测验试卷，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同学上讲台领自己的试卷，走回到自己的座位后，看了一眼自己的得分，将试卷搓成一团，然后便伏在课桌上睡大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教师讲评试卷了，同桌示意他，该听老师讲评了，但该学生仍懒洋洋地说：才得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42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分，我学不了，“天生我才没有用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行楷"/>
              </a:rPr>
              <a:t>情境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华文楷体"/>
                <a:ea typeface="华文楷体"/>
              </a:rPr>
              <a:t>同学听了一个先进同学的事迹，深受感动，决心在本学期内将成绩从全班三十多名提升至前十名，他模仿成绩好的同学的学习方法，但效果不好，他很灰心，只好放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449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华文行楷"/>
                <a:ea typeface="华文行楷"/>
              </a:rPr>
              <a:t>情境三：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同学是一名住宿生，每天中午放学后，别的同学或回家或到餐厅吃饭，她却给自己规定要挤出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分钟的时间专门记英语单词，每天至少要记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个，然后再回宿舍凑合吃点，结果很多时候都不能完成预定的任务，反而还搞得身心疲惫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华文行楷"/>
                <a:ea typeface="华文行楷"/>
              </a:rPr>
              <a:t>情境四：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同学是个十足的足球迷，高考前两个月恰逢世界杯，他偷偷地看了两场，发现自己几乎不能自拔了，后来他叫人把自己反锁在房里，强迫自己学习。他发誓，考完高考后，立即找世界杯的录像好好地看个够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1378080"/>
            <a:ext cx="860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师正在发测验试卷，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上讲台领自己的试卷，走回到自己的座位后，看了一眼自己的得分，将试卷搓成一团，然后便伏在课桌上睡大觉了。教师讲评试卷了，同桌示意他，该听老师讲评了，但该学生仍懒洋洋地说：才得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，我学不了，“天生我才没有用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476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45032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遇到学习上的困难便心灰意冷，甚至放弃意志努力 → 要转变认知，树立“天生我才必有用”的观念，重新振作起来，找到学习上的薄弱环节，一点点往前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2:10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7:21Z</dcterms:modified>
  <cp:revision>58</cp:revision>
  <dc:subject>主题班会课件(分28大类): http://shop62905894.taobao.com</dc:subject>
  <dc:title>主题班会课件(分28大类): http://shop62905894.taobao.com</dc:title>
</cp:coreProperties>
</file>